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6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2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ftr" idx="2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 type="sldNum" idx="2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b">
            <a:noAutofit/>
          </a:bodyPr>
          <a:lstStyle>
            <a:lvl1pPr marL="216000" indent="0" algn="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E4798751-D744-432C-B8E9-E4BBA171E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1C93AB10-2AB6-45E1-A474-064E424C3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5D26936A-FF0B-49B2-BC47-3D8FCDC8C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FBE518CE-A199-45EC-B532-6B1009520DBC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7B7EBD40-297B-44C5-9B71-FEA95246F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D727E526-6B97-4E91-A904-79BC18E8CF68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C4E8261B-E309-45A1-931B-17015B160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FA6BECAA-1D4C-43D7-BECA-BBE623D49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4A55580E-46DA-46FE-9220-F8E2798E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F55EF038-0CDD-4C60-9DF0-FB74F76AA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73B55712-7574-42C4-81EB-D7EAC0703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A0D91A48-3F6D-4955-BF23-5149AE7A4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BB11ADDE-DFA3-4669-B3D3-9401AA95D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6375120F-FC5F-4384-9C69-C7C236F11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A9006B55-DD6B-4DC2-8619-C1AB0EBBA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51522-2020-4943-807B-748174FE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9C0E4-C09F-43BE-9D29-854AE775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92500-81C0-4106-8861-F3A9836C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B5F0F-94AD-4FA9-80C4-E7F82599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A3D8D4-B399-4C35-86E8-46CBE17B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F0BD9-4DF5-472B-9AC5-51EE659C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BD50AB-0584-44F5-9309-F710E407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4761AB-FE2E-41F7-A89D-4E03B7A8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8807AD-198B-4D59-8753-88825DC7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AA7809-A202-48A0-AAE9-40E3A3BA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035FC9-4EF2-496F-B8D6-2E507C92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4C8AA6-B534-427A-80A6-957E5F8C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242325-B58A-4B6A-B5B0-488AF94F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D12464-0BC3-4E4D-B50A-FC7193A0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0C8513-D3C3-4D6B-98E6-7EC5CB9D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FD9AA0-1962-4F00-9EDA-48447A81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7086F-4EFB-4A66-904B-5EDFE2B8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1575C2-D6CD-421D-8B17-8081E240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ED8E5-031D-452A-9D1E-81C74055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D0708-83CB-41B3-98AD-B95D3D33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A5D52-CF48-4F27-838C-BFB0C529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D36C9-C962-4379-B424-7C4D2CED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20C91-EEB9-42F1-9DFB-388059B9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E6FC5-B25A-4EE2-A1D6-A6F4070F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C2D9-063F-4ABF-8D3A-8029A9FAE35C}" type="datetime">
              <a:rPr b="0" lang="en-US" sz="1400" spc="-1" strike="noStrike">
                <a:solidFill>
                  <a:srgbClr val="000099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C33B-5D1F-468A-996D-00F35345C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352F-C5C6-4661-82BB-2297EFBF7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984F-32D3-44E3-AE8E-FEBEFBDF6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F49E-BDAD-4E20-A52F-F2E7DA965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0706-A212-48C5-9B75-D470BF323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32D6-38B9-4D9F-9844-C4E3A915B34E}" type="datetime">
              <a:rPr b="0" lang="en-US" sz="1200" spc="-1" strike="noStrike">
                <a:solidFill>
                  <a:srgbClr val="00009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1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1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C1A8-98CF-4E29-BD3A-B42934785D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quad3"/>
          <p:cNvPicPr/>
          <p:nvPr/>
        </p:nvPicPr>
        <p:blipFill>
          <a:blip r:embed="rId2"/>
          <a:stretch/>
        </p:blipFill>
        <p:spPr>
          <a:xfrm>
            <a:off x="228600" y="1752480"/>
            <a:ext cx="3200400" cy="4343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3"/>
          <p:cNvSpPr/>
          <p:nvPr/>
        </p:nvSpPr>
        <p:spPr>
          <a:xfrm>
            <a:off x="3429000" y="1752480"/>
            <a:ext cx="5484960" cy="4341960"/>
          </a:xfrm>
          <a:prstGeom prst="rect">
            <a:avLst/>
          </a:prstGeom>
          <a:solidFill>
            <a:srgbClr val="a9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brand_horPP"/>
          <p:cNvPicPr/>
          <p:nvPr/>
        </p:nvPicPr>
        <p:blipFill>
          <a:blip r:embed="rId3"/>
          <a:stretch/>
        </p:blipFill>
        <p:spPr>
          <a:xfrm>
            <a:off x="227160" y="227160"/>
            <a:ext cx="8724600" cy="143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08DE-E7DD-4422-A3AC-8E8E2C6E78C4}" type="datetime">
              <a:rPr b="0" lang="en-US" sz="1200" spc="-1" strike="noStrike">
                <a:solidFill>
                  <a:srgbClr val="003399"/>
                </a:solidFill>
                <a:latin typeface="Arial Narrow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Discover Ry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ECCD-1794-4D0E-BF92-681F54653E10}" type="slidenum">
              <a:rPr b="0" lang="en-US" sz="1200" spc="-1" strike="noStrike">
                <a:solidFill>
                  <a:srgbClr val="00339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AD48-3EC4-4448-B2D1-83DEE3667B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3DDF-353B-4192-8899-1AFDD210C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93D9-1934-479A-9840-CABDE9474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9B7A-7670-45C8-AC92-53E00F3F29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D1BF-F05D-45DC-A20F-A34416DFD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85FE-4A2E-445D-AD4E-0CD38445C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5CC2-E256-4A42-AA9B-F69E282FD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www.ryerson.ca/physics/index.html" TargetMode="External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5"/>
          <p:cNvSpPr/>
          <p:nvPr/>
        </p:nvSpPr>
        <p:spPr>
          <a:xfrm>
            <a:off x="30492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Medical Physics at Ry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5400" y="-76320"/>
            <a:ext cx="7843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Department of Physic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9" name="Rectangle 16"/>
          <p:cNvSpPr/>
          <p:nvPr/>
        </p:nvSpPr>
        <p:spPr>
          <a:xfrm>
            <a:off x="3340080" y="1816200"/>
            <a:ext cx="55753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r. A. Pejov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ć-Mili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Chair and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Dr. T. Antimiro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ssistant Chair and Associate Pr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tion Over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Medical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verview of Medical Phys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d Science Programs at Ry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eer Opportunities for Gradu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Question and Answe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s Demo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Medical Physicist Rewards</a:t>
            </a:r>
            <a:br>
              <a:rPr sz="4800"/>
            </a:b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of applying the principles of physics to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sfaction of developing new technology for medic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ibuting to the well-being of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iving competitive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What do we mean by a qualified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edical physicist?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ndividual who is competent enough to independently practice in one or more of the subfields in medical phys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rtification and continuing education (to demonstrate compet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rained to be familiar with the principles of physics used in equipment an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miliar with government regulations and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miliar with performance specifications of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miliar with physical limitations of instruments, calibration procedures, and computer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is the Medical Physicist’s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imary 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Discipline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381880" cy="441972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1"/>
          <p:cNvSpPr/>
          <p:nvPr/>
        </p:nvSpPr>
        <p:spPr>
          <a:xfrm>
            <a:off x="2971800" y="5568840"/>
            <a:ext cx="3124080" cy="44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is the Medical Physicist’s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imary 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Responsibility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5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458200" cy="44881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3"/>
          <p:cNvSpPr/>
          <p:nvPr/>
        </p:nvSpPr>
        <p:spPr>
          <a:xfrm>
            <a:off x="2971800" y="5486400"/>
            <a:ext cx="3124080" cy="442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1773360"/>
            <a:ext cx="8564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epartment of Physics</a:t>
            </a:r>
            <a:br>
              <a:rPr sz="4800"/>
            </a:b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8" name="Picture 3" descr="IMG_3177.jpg"/>
          <p:cNvPicPr/>
          <p:nvPr/>
        </p:nvPicPr>
        <p:blipFill>
          <a:blip r:embed="rId1"/>
          <a:stretch/>
        </p:blipFill>
        <p:spPr>
          <a:xfrm>
            <a:off x="4800600" y="3786120"/>
            <a:ext cx="4103640" cy="27385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"/>
          <p:cNvPicPr/>
          <p:nvPr/>
        </p:nvPicPr>
        <p:blipFill>
          <a:blip r:embed="rId2"/>
          <a:stretch/>
        </p:blipFill>
        <p:spPr>
          <a:xfrm>
            <a:off x="2666880" y="3022560"/>
            <a:ext cx="3168720" cy="3567240"/>
          </a:xfrm>
          <a:prstGeom prst="rect">
            <a:avLst/>
          </a:prstGeom>
          <a:ln w="0">
            <a:noFill/>
          </a:ln>
        </p:spPr>
      </p:pic>
      <p:sp>
        <p:nvSpPr>
          <p:cNvPr id="660" name="Slide Number Placeholder 4"/>
          <p:cNvSpPr/>
          <p:nvPr/>
        </p:nvSpPr>
        <p:spPr>
          <a:xfrm>
            <a:off x="6553080" y="6229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D08B-38E8-4758-A4D6-0CB0455251B9}" type="slidenum">
              <a:rPr b="0" lang="en-US" sz="1200" spc="-1" strike="noStrike">
                <a:solidFill>
                  <a:srgbClr val="00339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partment of Physic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yerson Universit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723920" y="22093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as an independent department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full-time and 15 adjunct faculty members; 23 in the area of BioMedical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100 Undergraduate Medical Physics students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 Graduated Biomedical Physics students (MSc and PhD) and 42 enrolled in programs in 2012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0" descr="DSC_0180 (5)"/>
          <p:cNvPicPr/>
          <p:nvPr/>
        </p:nvPicPr>
        <p:blipFill>
          <a:blip r:embed="rId1"/>
          <a:stretch/>
        </p:blipFill>
        <p:spPr>
          <a:xfrm>
            <a:off x="250920" y="2209680"/>
            <a:ext cx="4446360" cy="2971800"/>
          </a:xfrm>
          <a:prstGeom prst="rect">
            <a:avLst/>
          </a:prstGeom>
          <a:ln w="0">
            <a:noFill/>
          </a:ln>
        </p:spPr>
      </p:pic>
      <p:sp>
        <p:nvSpPr>
          <p:cNvPr id="66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F1AB-23CC-45DB-AE76-BBCC483A7D8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6"/>
          <p:cNvSpPr/>
          <p:nvPr/>
        </p:nvSpPr>
        <p:spPr>
          <a:xfrm>
            <a:off x="639360" y="5516640"/>
            <a:ext cx="38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s Xmas Party – Dec.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left_strip_consumer_1"/>
          <p:cNvPicPr/>
          <p:nvPr/>
        </p:nvPicPr>
        <p:blipFill>
          <a:blip r:embed="rId2"/>
          <a:stretch/>
        </p:blipFill>
        <p:spPr>
          <a:xfrm>
            <a:off x="34920" y="6213600"/>
            <a:ext cx="548640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26920" y="340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99"/>
                </a:solidFill>
                <a:latin typeface="Arial"/>
              </a:rPr>
              <a:t>Programs offered by the Department of Physics</a:t>
            </a:r>
            <a:endParaRPr b="0" lang="en-US" sz="4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124080" y="167616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Undergraduate  (BSc) Program in Medical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disciplina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provide high quality, relevant education/training for graduates to enter into the workforce as medical or health physicists or continue on to graduate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70c6"/>
                </a:solidFill>
                <a:latin typeface="Arial"/>
              </a:rPr>
              <a:t>Graduate Program (MSc and PhD) in Biomedical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that is at the forefront of the research and development of novel methodologies for disease detection, treatment, and prevention, including relevant knowledge outside of their field and/or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00E2-BA6F-4320-BA37-2C4A5AC8FC5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71" name="Picture 4" descr="science option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80860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5"/>
          <p:cNvSpPr/>
          <p:nvPr/>
        </p:nvSpPr>
        <p:spPr>
          <a:xfrm>
            <a:off x="6629400" y="3657600"/>
            <a:ext cx="25146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3352680" y="91440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2743200" y="1219320"/>
            <a:ext cx="20574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8"/>
          <p:cNvSpPr/>
          <p:nvPr/>
        </p:nvSpPr>
        <p:spPr>
          <a:xfrm>
            <a:off x="1447920" y="3048120"/>
            <a:ext cx="990360" cy="6858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9"/>
          <p:cNvSpPr/>
          <p:nvPr/>
        </p:nvSpPr>
        <p:spPr>
          <a:xfrm>
            <a:off x="6353280" y="3071880"/>
            <a:ext cx="990360" cy="6858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0"/>
          <p:cNvSpPr/>
          <p:nvPr/>
        </p:nvSpPr>
        <p:spPr>
          <a:xfrm flipH="1">
            <a:off x="3657240" y="53352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1"/>
          <p:cNvSpPr/>
          <p:nvPr/>
        </p:nvSpPr>
        <p:spPr>
          <a:xfrm>
            <a:off x="0" y="0"/>
            <a:ext cx="350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cience at Ry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7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Science at Ryers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228600" y="1600200"/>
            <a:ext cx="304920" cy="106668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228600" y="2666880"/>
            <a:ext cx="304920" cy="106704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9"/>
          <p:cNvSpPr/>
          <p:nvPr/>
        </p:nvSpPr>
        <p:spPr>
          <a:xfrm>
            <a:off x="228600" y="3733920"/>
            <a:ext cx="304920" cy="106668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228600" y="4800600"/>
            <a:ext cx="304920" cy="106668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533520" y="4800600"/>
            <a:ext cx="82296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4"/>
          <p:cNvSpPr/>
          <p:nvPr/>
        </p:nvSpPr>
        <p:spPr>
          <a:xfrm>
            <a:off x="533520" y="838080"/>
            <a:ext cx="1523880" cy="76212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5"/>
          <p:cNvSpPr/>
          <p:nvPr/>
        </p:nvSpPr>
        <p:spPr>
          <a:xfrm>
            <a:off x="2057400" y="838080"/>
            <a:ext cx="76320" cy="3962520"/>
          </a:xfrm>
          <a:prstGeom prst="rect">
            <a:avLst/>
          </a:prstGeom>
          <a:solidFill>
            <a:srgbClr val="a9c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6"/>
          <p:cNvSpPr/>
          <p:nvPr/>
        </p:nvSpPr>
        <p:spPr>
          <a:xfrm>
            <a:off x="2133720" y="838080"/>
            <a:ext cx="2590560" cy="76212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8"/>
          <p:cNvSpPr/>
          <p:nvPr/>
        </p:nvSpPr>
        <p:spPr>
          <a:xfrm>
            <a:off x="4800600" y="838080"/>
            <a:ext cx="2514600" cy="76212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9"/>
          <p:cNvSpPr/>
          <p:nvPr/>
        </p:nvSpPr>
        <p:spPr>
          <a:xfrm>
            <a:off x="7391520" y="838080"/>
            <a:ext cx="1371600" cy="76212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0"/>
          <p:cNvSpPr/>
          <p:nvPr/>
        </p:nvSpPr>
        <p:spPr>
          <a:xfrm>
            <a:off x="4724280" y="838080"/>
            <a:ext cx="76320" cy="3962520"/>
          </a:xfrm>
          <a:prstGeom prst="rect">
            <a:avLst/>
          </a:prstGeom>
          <a:solidFill>
            <a:srgbClr val="a9c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1"/>
          <p:cNvSpPr/>
          <p:nvPr/>
        </p:nvSpPr>
        <p:spPr>
          <a:xfrm>
            <a:off x="7315200" y="838080"/>
            <a:ext cx="76320" cy="3962520"/>
          </a:xfrm>
          <a:prstGeom prst="rect">
            <a:avLst/>
          </a:prstGeom>
          <a:solidFill>
            <a:srgbClr val="a9c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2"/>
          <p:cNvSpPr/>
          <p:nvPr/>
        </p:nvSpPr>
        <p:spPr>
          <a:xfrm>
            <a:off x="8763120" y="838080"/>
            <a:ext cx="152280" cy="502920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cap="rnd" w="316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4"/>
          <p:cNvSpPr/>
          <p:nvPr/>
        </p:nvSpPr>
        <p:spPr>
          <a:xfrm>
            <a:off x="228600" y="2666880"/>
            <a:ext cx="8686800" cy="0"/>
          </a:xfrm>
          <a:prstGeom prst="line">
            <a:avLst/>
          </a:prstGeom>
          <a:ln cap="rnd" w="316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7"/>
          <p:cNvSpPr/>
          <p:nvPr/>
        </p:nvSpPr>
        <p:spPr>
          <a:xfrm>
            <a:off x="3048120" y="1600200"/>
            <a:ext cx="0" cy="2133720"/>
          </a:xfrm>
          <a:prstGeom prst="line">
            <a:avLst/>
          </a:prstGeom>
          <a:ln w="381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8"/>
          <p:cNvSpPr/>
          <p:nvPr/>
        </p:nvSpPr>
        <p:spPr>
          <a:xfrm>
            <a:off x="5638680" y="1600200"/>
            <a:ext cx="0" cy="2133720"/>
          </a:xfrm>
          <a:prstGeom prst="line">
            <a:avLst/>
          </a:prstGeom>
          <a:ln w="381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29"/>
          <p:cNvSpPr/>
          <p:nvPr/>
        </p:nvSpPr>
        <p:spPr>
          <a:xfrm>
            <a:off x="3962520" y="1600200"/>
            <a:ext cx="0" cy="2133720"/>
          </a:xfrm>
          <a:prstGeom prst="line">
            <a:avLst/>
          </a:prstGeom>
          <a:ln w="381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0"/>
          <p:cNvSpPr/>
          <p:nvPr/>
        </p:nvSpPr>
        <p:spPr>
          <a:xfrm>
            <a:off x="6629400" y="1600200"/>
            <a:ext cx="0" cy="3200400"/>
          </a:xfrm>
          <a:prstGeom prst="line">
            <a:avLst/>
          </a:prstGeom>
          <a:ln w="381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1"/>
          <p:cNvSpPr/>
          <p:nvPr/>
        </p:nvSpPr>
        <p:spPr>
          <a:xfrm>
            <a:off x="228600" y="838080"/>
            <a:ext cx="304920" cy="76212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2"/>
          <p:cNvSpPr/>
          <p:nvPr/>
        </p:nvSpPr>
        <p:spPr>
          <a:xfrm>
            <a:off x="228600" y="3733920"/>
            <a:ext cx="8686800" cy="0"/>
          </a:xfrm>
          <a:prstGeom prst="line">
            <a:avLst/>
          </a:prstGeom>
          <a:ln cap="rnd" w="316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33"/>
          <p:cNvSpPr/>
          <p:nvPr/>
        </p:nvSpPr>
        <p:spPr>
          <a:xfrm>
            <a:off x="228600" y="5867280"/>
            <a:ext cx="8686800" cy="0"/>
          </a:xfrm>
          <a:prstGeom prst="line">
            <a:avLst/>
          </a:prstGeom>
          <a:ln w="3168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4"/>
          <p:cNvSpPr/>
          <p:nvPr/>
        </p:nvSpPr>
        <p:spPr>
          <a:xfrm>
            <a:off x="2973240" y="10666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5"/>
          <p:cNvSpPr/>
          <p:nvPr/>
        </p:nvSpPr>
        <p:spPr>
          <a:xfrm>
            <a:off x="5486040" y="10666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6"/>
          <p:cNvSpPr/>
          <p:nvPr/>
        </p:nvSpPr>
        <p:spPr>
          <a:xfrm>
            <a:off x="7544880" y="83808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1bca"/>
                </a:solidFill>
                <a:latin typeface="Arial"/>
              </a:rPr>
              <a:t>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1bca"/>
                </a:solidFill>
                <a:latin typeface="Arial"/>
              </a:rPr>
              <a:t>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7"/>
          <p:cNvSpPr/>
          <p:nvPr/>
        </p:nvSpPr>
        <p:spPr>
          <a:xfrm>
            <a:off x="762840" y="914400"/>
            <a:ext cx="108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8"/>
          <p:cNvSpPr/>
          <p:nvPr/>
        </p:nvSpPr>
        <p:spPr>
          <a:xfrm>
            <a:off x="836280" y="510552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First-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9"/>
          <p:cNvSpPr/>
          <p:nvPr/>
        </p:nvSpPr>
        <p:spPr>
          <a:xfrm>
            <a:off x="4724280" y="486252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stry I &amp; II       Biology I &amp;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 I &amp; II               Physics I &amp;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s              Liberal e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40"/>
          <p:cNvSpPr/>
          <p:nvPr/>
        </p:nvSpPr>
        <p:spPr>
          <a:xfrm>
            <a:off x="4267080" y="49528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42"/>
          <p:cNvSpPr/>
          <p:nvPr/>
        </p:nvSpPr>
        <p:spPr>
          <a:xfrm rot="16200000">
            <a:off x="1551240" y="233316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only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and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4"/>
          <p:cNvSpPr/>
          <p:nvPr/>
        </p:nvSpPr>
        <p:spPr>
          <a:xfrm rot="16200000">
            <a:off x="4142160" y="233316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only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and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5"/>
          <p:cNvSpPr/>
          <p:nvPr/>
        </p:nvSpPr>
        <p:spPr>
          <a:xfrm rot="16200000">
            <a:off x="2641320" y="2388240"/>
            <a:ext cx="182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6"/>
          <p:cNvSpPr/>
          <p:nvPr/>
        </p:nvSpPr>
        <p:spPr>
          <a:xfrm rot="16200000">
            <a:off x="5232240" y="2388240"/>
            <a:ext cx="182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7"/>
          <p:cNvSpPr/>
          <p:nvPr/>
        </p:nvSpPr>
        <p:spPr>
          <a:xfrm rot="16200000">
            <a:off x="5991480" y="292356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bca"/>
                </a:solidFill>
                <a:latin typeface="Arial"/>
              </a:rPr>
              <a:t>Applied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8"/>
          <p:cNvSpPr/>
          <p:nvPr/>
        </p:nvSpPr>
        <p:spPr>
          <a:xfrm rot="16200000">
            <a:off x="3690360" y="2481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bca"/>
                </a:solidFill>
                <a:latin typeface="Arial"/>
              </a:rPr>
              <a:t>Bi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0"/>
          <p:cNvSpPr/>
          <p:nvPr/>
        </p:nvSpPr>
        <p:spPr>
          <a:xfrm>
            <a:off x="2362320" y="3962520"/>
            <a:ext cx="21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1"/>
          <p:cNvSpPr/>
          <p:nvPr/>
        </p:nvSpPr>
        <p:spPr>
          <a:xfrm>
            <a:off x="5029200" y="373392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2"/>
          <p:cNvSpPr/>
          <p:nvPr/>
        </p:nvSpPr>
        <p:spPr>
          <a:xfrm rot="16200000">
            <a:off x="-228960" y="2438640"/>
            <a:ext cx="314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minimum of one from stream A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of two from Stream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3"/>
          <p:cNvSpPr/>
          <p:nvPr/>
        </p:nvSpPr>
        <p:spPr>
          <a:xfrm rot="16200000">
            <a:off x="8280" y="50997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a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4"/>
          <p:cNvSpPr/>
          <p:nvPr/>
        </p:nvSpPr>
        <p:spPr>
          <a:xfrm rot="16200000">
            <a:off x="8280" y="1975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a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5"/>
          <p:cNvSpPr/>
          <p:nvPr/>
        </p:nvSpPr>
        <p:spPr>
          <a:xfrm rot="16200000">
            <a:off x="8280" y="30423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a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6"/>
          <p:cNvSpPr/>
          <p:nvPr/>
        </p:nvSpPr>
        <p:spPr>
          <a:xfrm rot="16200000">
            <a:off x="8280" y="4109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a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7"/>
          <p:cNvSpPr/>
          <p:nvPr/>
        </p:nvSpPr>
        <p:spPr>
          <a:xfrm flipH="1">
            <a:off x="228240" y="1600200"/>
            <a:ext cx="30492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8"/>
          <p:cNvSpPr/>
          <p:nvPr/>
        </p:nvSpPr>
        <p:spPr>
          <a:xfrm flipV="1">
            <a:off x="533520" y="837720"/>
            <a:ext cx="0" cy="7621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59"/>
          <p:cNvSpPr/>
          <p:nvPr/>
        </p:nvSpPr>
        <p:spPr>
          <a:xfrm flipV="1">
            <a:off x="2133720" y="837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0"/>
          <p:cNvSpPr/>
          <p:nvPr/>
        </p:nvSpPr>
        <p:spPr>
          <a:xfrm rot="16200000">
            <a:off x="6638400" y="28101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Physic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5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9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3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7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Upper Level Courses in Medical Physic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0" y="914400"/>
          <a:ext cx="914400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1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cond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cd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ird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cd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urth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cdf5"/>
                    </a:solidFill>
                  </a:tcPr>
                </a:tc>
              </a:tr>
              <a:tr h="44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tatistics 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ro to Medical 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Organic Chemistry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eometry &amp; Calcul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ern Physic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io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hotonics &amp; Optical       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Differential Equ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antum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iberal elec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Phys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clear physics / Radiation Prot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ell b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nat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ectricity &amp; Magnet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umerical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ermodynamics and Statistical 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eling in Med. Phy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fessional el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 Liberal el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diation Biolog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dical Ima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 Professional elec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2d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Image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2d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Phys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 Liberal elec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dical Physics Thesis (two ter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22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edical Physicist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Bridges Physics and Medicine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31" name="Picture 6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e1bca"/>
                </a:solidFill>
                <a:uFillTx/>
                <a:latin typeface="Arial"/>
              </a:rPr>
              <a:t>Co-Op in Medical Physic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533520" y="19810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133720" y="19810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A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3733920" y="19810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A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5334120" y="19810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A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6934320" y="19810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A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533520" y="23623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160020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106668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733920" y="23623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0040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3"/>
          <p:cNvSpPr/>
          <p:nvPr/>
        </p:nvSpPr>
        <p:spPr>
          <a:xfrm>
            <a:off x="266688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4"/>
          <p:cNvSpPr/>
          <p:nvPr/>
        </p:nvSpPr>
        <p:spPr>
          <a:xfrm>
            <a:off x="2133720" y="23623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426708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480060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5334120" y="23623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586728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9"/>
          <p:cNvSpPr/>
          <p:nvPr/>
        </p:nvSpPr>
        <p:spPr>
          <a:xfrm>
            <a:off x="640080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6934320" y="23623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746748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800100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2666880" y="2743200"/>
            <a:ext cx="533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e1b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4"/>
          <p:cNvSpPr/>
          <p:nvPr/>
        </p:nvSpPr>
        <p:spPr>
          <a:xfrm>
            <a:off x="1600200" y="2895480"/>
            <a:ext cx="533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5"/>
          <p:cNvSpPr/>
          <p:nvPr/>
        </p:nvSpPr>
        <p:spPr>
          <a:xfrm>
            <a:off x="1066680" y="2743200"/>
            <a:ext cx="533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e1b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533520" y="2743200"/>
            <a:ext cx="533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3200400" y="3124080"/>
            <a:ext cx="533520" cy="1219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W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4267080" y="3124080"/>
            <a:ext cx="53352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W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6400800" y="3124080"/>
            <a:ext cx="53352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W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2133720" y="2743200"/>
            <a:ext cx="533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4800600" y="3124080"/>
            <a:ext cx="53352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W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3733920" y="2743200"/>
            <a:ext cx="533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e1b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5334120" y="3124080"/>
            <a:ext cx="53316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W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5867280" y="2743200"/>
            <a:ext cx="533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e1b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7467480" y="2743200"/>
            <a:ext cx="533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e1b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6934320" y="2743200"/>
            <a:ext cx="533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8"/>
          <p:cNvSpPr/>
          <p:nvPr/>
        </p:nvSpPr>
        <p:spPr>
          <a:xfrm>
            <a:off x="762120" y="4800600"/>
            <a:ext cx="2895480" cy="825480"/>
          </a:xfrm>
          <a:prstGeom prst="rect">
            <a:avLst/>
          </a:prstGeom>
          <a:solidFill>
            <a:srgbClr val="a9cd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1bca"/>
                </a:solidFill>
                <a:latin typeface="Arial"/>
              </a:rPr>
              <a:t>Preparation for 1</a:t>
            </a:r>
            <a:r>
              <a:rPr b="1" lang="en-US" sz="2400" spc="-1" strike="noStrike" baseline="30000">
                <a:solidFill>
                  <a:srgbClr val="0e1bca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e1bca"/>
                </a:solidFill>
                <a:latin typeface="Arial"/>
              </a:rPr>
              <a:t>  Co-op Work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40"/>
          <p:cNvSpPr/>
          <p:nvPr/>
        </p:nvSpPr>
        <p:spPr>
          <a:xfrm>
            <a:off x="2438280" y="4267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41"/>
          <p:cNvSpPr/>
          <p:nvPr/>
        </p:nvSpPr>
        <p:spPr>
          <a:xfrm flipV="1">
            <a:off x="2438280" y="403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42"/>
          <p:cNvSpPr/>
          <p:nvPr/>
        </p:nvSpPr>
        <p:spPr>
          <a:xfrm flipV="1">
            <a:off x="2971800" y="403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43"/>
          <p:cNvSpPr/>
          <p:nvPr/>
        </p:nvSpPr>
        <p:spPr>
          <a:xfrm>
            <a:off x="2743200" y="4267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"/>
          <p:cNvSpPr/>
          <p:nvPr/>
        </p:nvSpPr>
        <p:spPr>
          <a:xfrm>
            <a:off x="3848040" y="4419720"/>
            <a:ext cx="49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students are eligible to graduate with a B.Sc. (Co-Operative Education) degree (an option of the program) if they are successfully completed five or four co-op work term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152280" y="182520"/>
            <a:ext cx="8991720" cy="222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Business Management O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n Medical Physics program </a:t>
            </a:r>
            <a:r>
              <a:rPr b="0" lang="en-US" sz="2400" spc="-1" strike="noStrike">
                <a:solidFill>
                  <a:srgbClr val="0e1bc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vides students with a solid foundation in management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urses available in the spring 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pecial designation appended to degree ti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457200" y="2743200"/>
          <a:ext cx="8381880" cy="3011400"/>
        </p:xfrm>
        <a:graphic>
          <a:graphicData uri="http://schemas.openxmlformats.org/drawingml/2006/table">
            <a:tbl>
              <a:tblPr/>
              <a:tblGrid>
                <a:gridCol w="4497480"/>
                <a:gridCol w="38844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Required Cou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cdf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Elective Courses (select 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cdf5"/>
                    </a:solidFill>
                  </a:tcPr>
                </a:tc>
              </a:tr>
              <a:tr h="64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Entrepreneurship&amp; Innovation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Management Informa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Operations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Operations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Investment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Managerial Ac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Organization Design &amp;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Project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Principles of Engineering Econo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505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Carrier Possibilitie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352320" y="152280"/>
            <a:ext cx="5791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BSc graduates can choose employment with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Research laborat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Regulatory author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Environmental consult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Power-generating u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Or work w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Medical radiation source manufactur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Cancer clinics (as physics assistan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Equipment developers and produc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Medical imaging techn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Information technology compan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Graduates can also pursue research degrees in Medical Physics, Medical Biophysics, or related fiel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Graduates could also proceed to professional schools 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Medi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L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7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7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3504960" y="4495320"/>
            <a:ext cx="532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Arial Narrow"/>
              </a:rPr>
              <a:t>Life after gradu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title"/>
          </p:nvPr>
        </p:nvSpPr>
        <p:spPr>
          <a:xfrm>
            <a:off x="3428640" y="1981080"/>
            <a:ext cx="53290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 Narrow"/>
              </a:rPr>
              <a:t>Ryerson Medical Physics Alumni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850920" y="1484280"/>
            <a:ext cx="495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rjit Baghwala – Class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pleting my BSc. in Medical Physics, I got admitted into the Health and Radiation Physics MSc. program at McMaster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ompleted my masters in 2010 September and took up a job offer of a Medical Physicist in Houston, TX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265560" cy="2179800"/>
          </a:xfrm>
          <a:prstGeom prst="rect">
            <a:avLst/>
          </a:prstGeom>
          <a:ln w="0">
            <a:noFill/>
          </a:ln>
        </p:spPr>
      </p:pic>
    </p:spTree>
  </p:cSld>
  <p:transition advTm="2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203640" y="1557360"/>
            <a:ext cx="56023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arolyn Halar – Class of 20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 was given the support and guidance I needed along the way to get where I wanted to 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 have made many friends throughout my years at Ryerson and many memories to take with m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 am currently attaining my Bachelor of Education (I/S- Math and Physics), at the University of Toronto (OIS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yerson helped me get there by providing me with knowledge and confidence in the subject area that I want to teach.”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2" descr="Carolyn"/>
          <p:cNvPicPr/>
          <p:nvPr/>
        </p:nvPicPr>
        <p:blipFill>
          <a:blip r:embed="rId1"/>
          <a:stretch/>
        </p:blipFill>
        <p:spPr>
          <a:xfrm>
            <a:off x="539640" y="2205000"/>
            <a:ext cx="2303640" cy="3828960"/>
          </a:xfrm>
          <a:prstGeom prst="rect">
            <a:avLst/>
          </a:prstGeom>
          <a:ln w="0">
            <a:noFill/>
          </a:ln>
        </p:spPr>
      </p:pic>
    </p:spTree>
  </p:cSld>
  <p:transition advTm="25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oris Tchouala – Class of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tudying Medical Physics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yerson has provided me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expertise necessary to thr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 an evolving area of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are: Medical Imaging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 graduated from Ryerson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pril 2010, and have been wor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s a research assistan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unnybrook hospital since then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2" descr="D:\bkirkham\Desktop\bioJoris.jpg"/>
          <p:cNvPicPr/>
          <p:nvPr/>
        </p:nvPicPr>
        <p:blipFill>
          <a:blip r:embed="rId1"/>
          <a:stretch/>
        </p:blipFill>
        <p:spPr>
          <a:xfrm>
            <a:off x="3708360" y="1989000"/>
            <a:ext cx="5013360" cy="3743640"/>
          </a:xfrm>
          <a:prstGeom prst="rect">
            <a:avLst/>
          </a:prstGeom>
          <a:ln w="0">
            <a:noFill/>
          </a:ln>
        </p:spPr>
      </p:pic>
    </p:spTree>
  </p:cSld>
  <p:transition advTm="2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lissa Martinez – Class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 am currently doing research at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ought controlled computing compa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y job is to design algorithms for EE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nalysis and to assist with creative R&amp;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of brainwave controlled experie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nd applications.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D:\bkirkham\Desktop\meli.jpg"/>
          <p:cNvPicPr/>
          <p:nvPr/>
        </p:nvPicPr>
        <p:blipFill>
          <a:blip r:embed="rId1"/>
          <a:stretch/>
        </p:blipFill>
        <p:spPr>
          <a:xfrm>
            <a:off x="4356000" y="2349360"/>
            <a:ext cx="3936960" cy="2951280"/>
          </a:xfrm>
          <a:prstGeom prst="rect">
            <a:avLst/>
          </a:prstGeom>
          <a:ln w="0">
            <a:noFill/>
          </a:ln>
        </p:spPr>
      </p:pic>
    </p:spTree>
  </p:cSld>
  <p:transition advTm="27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Jatin Patel – Class of 200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fter finishing my Masters degree in Health Physics at McMaster University, I am working as Health Physics at ENERGYSOLUTIONS Canada. Ryerson prepared me for graduate school by providing me with research and work experience through research assistant (RA) positions and a co-op education program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1"/>
          <a:stretch/>
        </p:blipFill>
        <p:spPr>
          <a:xfrm>
            <a:off x="3132000" y="3197160"/>
            <a:ext cx="4176720" cy="312912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3"/>
          <p:cNvSpPr/>
          <p:nvPr/>
        </p:nvSpPr>
        <p:spPr>
          <a:xfrm rot="20633400">
            <a:off x="103320" y="3989520"/>
            <a:ext cx="3171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bfbfbf"/>
                </a:solidFill>
                <a:latin typeface="Arial"/>
              </a:rPr>
              <a:t> “</a:t>
            </a:r>
            <a:r>
              <a:rPr b="0" i="1" lang="en-CA" sz="1200" spc="-1" strike="noStrike">
                <a:solidFill>
                  <a:srgbClr val="bfbfbf"/>
                </a:solidFill>
                <a:latin typeface="Arial"/>
              </a:rPr>
              <a:t>By providing me with a broad exposure to many different areas of Medical Physics, Ryerson helped me to find myself as a student and as a perso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203640" y="1527120"/>
            <a:ext cx="560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sa Alhamami – Class of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ompleted a BSc, with first-class honors, in Medical Physics at Ryerson University in 2011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my undergraduate studies, I worked on NSERC-funded research projects in summer 2010 and 2011 in the Department of Physics at Ryerson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s involved in the development of an image-guided high intensity focused ultrasound (HIFU) system for applications in neural tissue modulation and solid tumor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future, I intend to pursue PhD and MD degrees, with specialization in interventional radiology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1"/>
          <a:stretch/>
        </p:blipFill>
        <p:spPr>
          <a:xfrm>
            <a:off x="576360" y="2205000"/>
            <a:ext cx="2352600" cy="35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edical Physicis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cal physici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professional who specializes in the application of the concepts and methods of physics to the diagnosis and treatment of human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131640" y="1527120"/>
            <a:ext cx="567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ermiya Baguisa – Class of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'm currently on a full scholarship for a PhD program in chemical physics at the University of Queensland (Australia)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work is being done at the Centre for Advanced Imaging, in collaboration with the School of Physics and School of Chemistry and Molecular Bioscie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project involves utilizing electron paramagnetic resonance (EPR) and nuclear magnetic resonance (NMR) to understand the physics of the biomolecule melanin.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2425680" cy="32893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Who can apply to the undergraduate program in Medical Physics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504960" y="129528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Admission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ntario Secondary School Diplom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.S.S.D.) with 6 grade 12 U/M or OAC courses including a minimum of 70% or higher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/Anglais (ENG4U/EAE4U preferr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Functions (MHF4U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of: Biology (SBI4U), Chemistry (SCH4U) or Physics (SPH4U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buClr>
                <a:srgbClr val="1270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70c6"/>
                </a:solidFill>
                <a:latin typeface="Arial"/>
              </a:rPr>
              <a:t>Biology (SBI4U) is strongly recommended for Biology students, Chemistry (SCH4U) is strongly recommended for Chemistry students, and Physics is recommended for all Bachelor of Science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457200" y="627696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ore information visit: http://www.ryerson.ca/undergraduate/admission/programs/medica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4191120" y="31680"/>
            <a:ext cx="4952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Student Suppor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Narrow"/>
              </a:rPr>
              <a:t>First Year and Common Scienc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ree tutoring in first-year science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earning success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ccess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riting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entre for student development and coun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areer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yerson studen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udent financi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ealth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any, many mo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233280" y="2438280"/>
            <a:ext cx="3657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While an undergraduate stu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search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atory technologist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-op and inter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ubs, groups, course unions,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fessional schools (medicine, dentistry, pharmac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"/>
          <p:cNvSpPr/>
          <p:nvPr/>
        </p:nvSpPr>
        <p:spPr>
          <a:xfrm>
            <a:off x="228600" y="228600"/>
            <a:ext cx="3657600" cy="1008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Ryerson is a leader in providing student centered service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575A-ABCB-4351-9621-EB9B94BD010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9" descr="f1.tif"/>
          <p:cNvPicPr/>
          <p:nvPr/>
        </p:nvPicPr>
        <p:blipFill>
          <a:blip r:embed="rId1"/>
          <a:stretch/>
        </p:blipFill>
        <p:spPr>
          <a:xfrm>
            <a:off x="398520" y="1425600"/>
            <a:ext cx="6549840" cy="2879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0" descr="f2.tif"/>
          <p:cNvPicPr/>
          <p:nvPr/>
        </p:nvPicPr>
        <p:blipFill>
          <a:blip r:embed="rId2"/>
          <a:stretch/>
        </p:blipFill>
        <p:spPr>
          <a:xfrm>
            <a:off x="3708360" y="4017960"/>
            <a:ext cx="4624560" cy="27036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5"/>
          <p:cNvSpPr/>
          <p:nvPr/>
        </p:nvSpPr>
        <p:spPr>
          <a:xfrm>
            <a:off x="179280" y="588960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yerson.ca/physi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-6840" y="-3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edical Physics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t Ryerson University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Box 7"/>
          <p:cNvSpPr/>
          <p:nvPr/>
        </p:nvSpPr>
        <p:spPr>
          <a:xfrm rot="1962600">
            <a:off x="5336640" y="1025640"/>
            <a:ext cx="40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2454120" y="365436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y 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0" dur="2000" fill="hold"/>
                                        <p:tgtEl>
                                          <p:spTgt spid="81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edical Physics Disciplines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(Subfields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581280" y="17521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Therapeutic Radiological Physics or Radiation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Diagnostic Imaging Physics or Medical Im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Medical Nuclear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Medical Health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rapeutic Radiological Physics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504960" y="12193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rapeutic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x-ray, gamma ray, neutron, electron, and charged-particle beams, and radiation from sealed radionuclide 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ipment associated with their production, use, measurement, and eval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ality of images resulting from their production and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health physics associated with this sub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iagnostic Radiological Physic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429000" y="1295280"/>
            <a:ext cx="5410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agnostic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x-rays, gamma rays from sealed sources, ultrasonic radiation, and radio frequency radiation and magnetic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ipment associated with their production, use, measurement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ality of images resulting from their production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health physics associated with this sub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edical Nuclear Physic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818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rapeutic and diagnos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lications of radionuclides in </a:t>
            </a: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unseal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ipment associated with their production, use, measurement,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ality of images resulting from their production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health physics associated with this sub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edical Health Physic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428640" y="1447560"/>
            <a:ext cx="5257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afe 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x-ray, gamma ray, neutron, electron, and other charged particle beams or radionuclides in medicine (for diagnostic or therapeutic purpo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strumentation required to perform appropriate radiation surv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dical physicist often serves as the radiation safety offi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edical Physicist is Part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of the Medical Team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(Radiation, Oncologist, Surgeon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Physic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simet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s As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ion Therap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4572000" y="2057400"/>
            <a:ext cx="4572000" cy="39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 (Radiologist, Cardiologist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Physic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As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logical Techn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9:39:08Z</dcterms:created>
  <dc:creator>dmp</dc:creator>
  <dc:description/>
  <dc:language>en-US</dc:language>
  <cp:lastModifiedBy>Tetyana Antimirova</cp:lastModifiedBy>
  <dcterms:modified xsi:type="dcterms:W3CDTF">2013-05-27T13:33:24Z</dcterms:modified>
  <cp:revision>78</cp:revision>
  <dc:subject/>
  <dc:title>Slide 1</dc:title>
</cp:coreProperties>
</file>